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wmf" ContentType="image/x-wmf"/>
  <Override PartName="/ppt/media/image17.jpeg" ContentType="image/jpeg"/>
  <Override PartName="/ppt/media/image3.png" ContentType="image/png"/>
  <Override PartName="/ppt/media/image4.wmf" ContentType="image/x-wmf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482-9586-43C2-BFDF-DDD6F82D2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6D3-A487-4A15-A1FD-1EE2948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570-0051-4AAC-AFA9-0C135827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5A8D-9756-4CEF-8F95-33C9F14B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627-568A-4D06-983F-341E6557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A97-1F75-4625-8D53-A8DD69CA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D5D-F392-4EFB-9691-DAC729A9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46C-9036-41F6-8E88-33D71DB5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13D-8522-4D62-B12A-49953190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8E9-1F90-4EF8-B8CF-A9651DF1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FD39-82B4-4C76-83D3-37791F0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F33-7FF6-4C47-B55B-5F7BE1F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F60D-56C1-439D-8BE2-D38AFD658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5.wmf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311040" y="30240"/>
            <a:ext cx="8613720" cy="200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324880" y="2002320"/>
            <a:ext cx="5667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過        聖誕樹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禮物      卡片</a:t>
            </a:r>
            <a:br>
              <a:rPr sz="6000"/>
            </a:br>
            <a:br>
              <a:rPr sz="6000"/>
            </a:br>
            <a:r>
              <a:rPr b="1" lang="en-US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</a:t>
            </a:r>
            <a:r>
              <a:rPr b="1" lang="zh-CN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老人（老公公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MCj04240440000[1]"/>
          <p:cNvPicPr/>
          <p:nvPr/>
        </p:nvPicPr>
        <p:blipFill>
          <a:blip r:embed="rId2"/>
          <a:stretch/>
        </p:blipFill>
        <p:spPr>
          <a:xfrm>
            <a:off x="2209680" y="2057400"/>
            <a:ext cx="1019160" cy="857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j0436272"/>
          <p:cNvPicPr/>
          <p:nvPr/>
        </p:nvPicPr>
        <p:blipFill>
          <a:blip r:embed="rId3"/>
          <a:stretch/>
        </p:blipFill>
        <p:spPr>
          <a:xfrm>
            <a:off x="7391520" y="17524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4"/>
          <a:stretch/>
        </p:blipFill>
        <p:spPr>
          <a:xfrm>
            <a:off x="3048120" y="3809880"/>
            <a:ext cx="1123920" cy="11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MCj04115560000[1]"/>
          <p:cNvPicPr/>
          <p:nvPr/>
        </p:nvPicPr>
        <p:blipFill>
          <a:blip r:embed="rId5"/>
          <a:stretch/>
        </p:blipFill>
        <p:spPr>
          <a:xfrm>
            <a:off x="7315200" y="3733920"/>
            <a:ext cx="1019160" cy="1009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MPj04403070000[1]"/>
          <p:cNvPicPr/>
          <p:nvPr/>
        </p:nvPicPr>
        <p:blipFill>
          <a:blip r:embed="rId6"/>
          <a:stretch/>
        </p:blipFill>
        <p:spPr>
          <a:xfrm>
            <a:off x="457200" y="5032440"/>
            <a:ext cx="167652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529640" y="1773000"/>
            <a:ext cx="59594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他 （們）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哪 裡</a:t>
            </a:r>
            <a:r>
              <a:rPr b="1" lang="en-US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你 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66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做 什 麼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93120" y="2286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030709shandiwuline.JPG"/>
          <p:cNvPicPr/>
          <p:nvPr/>
        </p:nvPicPr>
        <p:blipFill>
          <a:blip r:embed="rId1"/>
          <a:stretch/>
        </p:blipFill>
        <p:spPr>
          <a:xfrm>
            <a:off x="6858000" y="380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make phone call 120709.jpg"/>
          <p:cNvPicPr/>
          <p:nvPr/>
        </p:nvPicPr>
        <p:blipFill>
          <a:blip r:embed="rId2"/>
          <a:stretch/>
        </p:blipFill>
        <p:spPr>
          <a:xfrm>
            <a:off x="4876920" y="2895480"/>
            <a:ext cx="1950840" cy="1951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market 1 120709.jpg"/>
          <p:cNvPicPr/>
          <p:nvPr/>
        </p:nvPicPr>
        <p:blipFill>
          <a:blip r:embed="rId3"/>
          <a:stretch/>
        </p:blipFill>
        <p:spPr>
          <a:xfrm>
            <a:off x="762120" y="2895480"/>
            <a:ext cx="223524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IMG_8924.JPG"/>
          <p:cNvPicPr/>
          <p:nvPr/>
        </p:nvPicPr>
        <p:blipFill>
          <a:blip r:embed="rId4"/>
          <a:stretch/>
        </p:blipFill>
        <p:spPr>
          <a:xfrm>
            <a:off x="1066680" y="304920"/>
            <a:ext cx="175284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51080" y="1015200"/>
            <a:ext cx="8343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zh-CN" sz="72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（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place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地方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爺爺，奶奶 ，外公，外婆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學校，公園，家，市場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做點心，畫圖，看書，念故事</a:t>
            </a:r>
            <a:r>
              <a:rPr b="0" lang="en-US" sz="2000" spc="-1" strike="noStrike">
                <a:solidFill>
                  <a:srgbClr val="000000"/>
                </a:solidFill>
                <a:latin typeface="文鼎標準楷體"/>
                <a:ea typeface="文鼎標準楷體"/>
              </a:rPr>
              <a:t>etc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 </a:t>
            </a:r>
            <a:r>
              <a:rPr b="1" lang="zh-CN" sz="66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在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being verb 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做。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writing 090909.jpg"/>
          <p:cNvPicPr/>
          <p:nvPr/>
        </p:nvPicPr>
        <p:blipFill>
          <a:blip r:embed="rId1"/>
          <a:stretch/>
        </p:blipFill>
        <p:spPr>
          <a:xfrm>
            <a:off x="6629400" y="3809880"/>
            <a:ext cx="1625760" cy="111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reading 090909.jpg"/>
          <p:cNvPicPr/>
          <p:nvPr/>
        </p:nvPicPr>
        <p:blipFill>
          <a:blip r:embed="rId2"/>
          <a:stretch/>
        </p:blipFill>
        <p:spPr>
          <a:xfrm>
            <a:off x="4572000" y="3505320"/>
            <a:ext cx="1625760" cy="16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-17640" y="631800"/>
            <a:ext cx="916164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舅舅家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吃點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外婆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到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市場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去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買</a:t>
            </a:r>
            <a:r>
              <a:rPr b="1" lang="zh-CN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木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瓜，香蕉，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蘋果</a:t>
            </a:r>
            <a:r>
              <a:rPr b="1" lang="en-US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爺爺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沒有</a:t>
            </a:r>
            <a:r>
              <a:rPr b="1" lang="zh-CN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顏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色筆，</a:t>
            </a:r>
            <a:r>
              <a:rPr b="1" lang="zh-TW" sz="4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只有</a:t>
            </a:r>
            <a:r>
              <a:rPr b="1" lang="zh-TW" sz="4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鉛筆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0" descr="MCj04123920000[1]"/>
          <p:cNvPicPr/>
          <p:nvPr/>
        </p:nvPicPr>
        <p:blipFill>
          <a:blip r:embed="rId1"/>
          <a:stretch/>
        </p:blipFill>
        <p:spPr>
          <a:xfrm>
            <a:off x="1143000" y="5410080"/>
            <a:ext cx="1066680" cy="868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1" descr="MCj04348720000[1]"/>
          <p:cNvPicPr/>
          <p:nvPr/>
        </p:nvPicPr>
        <p:blipFill>
          <a:blip r:embed="rId2"/>
          <a:stretch/>
        </p:blipFill>
        <p:spPr>
          <a:xfrm rot="16973400">
            <a:off x="4814640" y="5295240"/>
            <a:ext cx="879480" cy="1200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papayas.jpg"/>
          <p:cNvPicPr/>
          <p:nvPr/>
        </p:nvPicPr>
        <p:blipFill>
          <a:blip r:embed="rId3"/>
          <a:stretch/>
        </p:blipFill>
        <p:spPr>
          <a:xfrm>
            <a:off x="1295280" y="2895480"/>
            <a:ext cx="1279800" cy="1300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watermelons 020909.jpg"/>
          <p:cNvPicPr/>
          <p:nvPr/>
        </p:nvPicPr>
        <p:blipFill>
          <a:blip r:embed="rId4"/>
          <a:stretch/>
        </p:blipFill>
        <p:spPr>
          <a:xfrm>
            <a:off x="4191120" y="3048120"/>
            <a:ext cx="1625400" cy="1434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one banana 020909.jpg"/>
          <p:cNvPicPr/>
          <p:nvPr/>
        </p:nvPicPr>
        <p:blipFill>
          <a:blip r:embed="rId5"/>
          <a:stretch/>
        </p:blipFill>
        <p:spPr>
          <a:xfrm>
            <a:off x="2666880" y="2971800"/>
            <a:ext cx="1067040" cy="110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4 apples020909.jpg"/>
          <p:cNvPicPr/>
          <p:nvPr/>
        </p:nvPicPr>
        <p:blipFill>
          <a:blip r:embed="rId6"/>
          <a:stretch/>
        </p:blipFill>
        <p:spPr>
          <a:xfrm>
            <a:off x="304920" y="3048120"/>
            <a:ext cx="904680" cy="1170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MCj04115560000[1]"/>
          <p:cNvPicPr/>
          <p:nvPr/>
        </p:nvPicPr>
        <p:blipFill>
          <a:blip r:embed="rId7"/>
          <a:stretch/>
        </p:blipFill>
        <p:spPr>
          <a:xfrm>
            <a:off x="6095880" y="3124080"/>
            <a:ext cx="1019160" cy="100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j0436272"/>
          <p:cNvPicPr/>
          <p:nvPr/>
        </p:nvPicPr>
        <p:blipFill>
          <a:blip r:embed="rId8"/>
          <a:stretch/>
        </p:blipFill>
        <p:spPr>
          <a:xfrm>
            <a:off x="7391520" y="28954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"/>
          <p:cNvSpPr/>
          <p:nvPr/>
        </p:nvSpPr>
        <p:spPr>
          <a:xfrm>
            <a:off x="64440" y="1165320"/>
            <a:ext cx="89769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有 </a:t>
            </a: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object A (more) , 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</a:t>
            </a:r>
            <a:r>
              <a:rPr b="1" lang="zh-CN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只有 </a:t>
            </a: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object B (les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有三個姐姐，</a:t>
            </a:r>
            <a:br>
              <a:rPr sz="4800"/>
            </a:br>
            <a:r>
              <a:rPr b="1" lang="en-US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    </a:t>
            </a:r>
            <a:r>
              <a:rPr b="1" lang="zh-TW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只有一個哥哥</a:t>
            </a: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3320" y="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可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-303480" y="1239840"/>
            <a:ext cx="99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list of items)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r>
              <a:rPr b="1" lang="en-US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+ (additional items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姊姊，</a:t>
            </a: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</a:t>
            </a:r>
            <a:r>
              <a:rPr b="1" lang="zh-CN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哥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583240" y="2286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還有。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2506680" y="0"/>
            <a:ext cx="129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有。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1797120" y="-119880"/>
            <a:ext cx="5438520" cy="71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喜歡</a:t>
            </a:r>
            <a:r>
              <a:rPr b="1" lang="zh-CN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過</a:t>
            </a:r>
            <a:r>
              <a:rPr b="1" lang="zh-CN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聖誕節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叔叔買了很多聖誕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禮物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姊姊做了三張聖誕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卡片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我家的</a:t>
            </a:r>
            <a:r>
              <a:rPr b="1" lang="zh-TW" sz="54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聖誕樹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很大／高／美麗．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2060"/>
                </a:solidFill>
                <a:latin typeface="文鼎標準楷體"/>
                <a:ea typeface="文鼎標準楷體"/>
              </a:rPr>
              <a:t>聖誕老人</a:t>
            </a:r>
            <a:r>
              <a:rPr b="1" lang="zh-TW" sz="4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給了我很多禮物</a:t>
            </a: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9:16:41Z</dcterms:created>
  <dc:creator>Monica</dc:creator>
  <dc:description/>
  <dc:language>en-US</dc:language>
  <cp:lastModifiedBy>Monica</cp:lastModifiedBy>
  <dcterms:modified xsi:type="dcterms:W3CDTF">2009-12-14T18:31:22Z</dcterms:modified>
  <cp:revision>2</cp:revision>
  <dc:subject/>
  <dc:title>Slide 1</dc:title>
</cp:coreProperties>
</file>